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1.jpeg" ContentType="image/jpeg"/>
  <Override PartName="/ppt/media/image9.jpeg" ContentType="image/jpeg"/>
  <Override PartName="/ppt/media/drumroll.wav" ContentType="audio/x-wav"/>
  <Override PartName="/ppt/media/image3.jpeg" ContentType="image/jpeg"/>
  <Override PartName="/ppt/media/image1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0.png" ContentType="image/png"/>
  <Override PartName="/ppt/media/image27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EA0-B816-40BD-AE54-AE9256C5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8E7-1748-43CA-AC72-50BD057E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26D69-3EB5-4859-832F-7982A410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EBF5F-7DC8-4812-A2C4-4894E97F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FCE62-7198-457F-ABF0-19A70D44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B2D54-B65A-49B1-9196-3FB17419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1AE85-EA3F-4D5B-B8B0-A1AB6CC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4A5B9-D510-4098-A547-E1D90685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84FD4-E81D-42F4-A2B2-AE60A21E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32D04-187F-44B1-A8F4-6562A9B8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4A280-AD8E-454A-BAD6-DDFB82FD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FE1AC-F487-4950-B368-929EDB3D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37E-815E-4C8C-ACAF-7EC75E8E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02A3C-DAC6-4E24-B10A-9EECD018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6521B-F1DE-4C10-B818-848D7CA4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CDE40-0F0A-45BF-B6DA-51FBB4F4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F9B0D-AF33-47B7-85BA-FC3EE5CB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5D8D5-7934-4DE6-BC63-3FE8CD66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59844-124A-4D0C-B72B-D17C3126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F2AE4-8685-4396-9079-BC696C26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5B2E6-B1C2-431C-BB36-CC3C4C04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C1D3A-3D37-4CBD-9990-79E0A573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64D65-E1AB-46E0-987E-D001EF1A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D60-4049-43F1-9B13-40FB2C49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E6C84-6A57-4826-A630-54064ED8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69B44-C911-4779-8349-80809A82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02172-DB61-4BC6-BA14-DB6D2F3C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313EB-3D74-4B6B-8687-22158D33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78C2F-C525-47A8-B2DF-D5A10AC3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7F256-F597-4CBD-87D9-2E96A7B9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BF38A-C278-4759-B59D-7F6C5C14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0E83C-B943-43A4-8F5C-E326BDED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CF992-4AE7-4CD6-87DC-24B45EEB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E3CE4-AD1D-4AE1-9656-BCBFEDD1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E0B7-B5E7-4533-9288-DBA282EE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F60F1-AA18-467A-9089-08EC843B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B74B4-4F5B-47BB-B5A7-5B8133AA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0C225-D324-4153-AF7D-6C5669A4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B910B-EA85-4690-A7A5-137E0056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3D77B-FFCA-4C2F-B7E0-A7643FEE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5EC2D-D47B-4DB6-91B1-46343080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284D5-F1FC-4667-81A2-96F5BEB2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851E5-7EB9-45ED-BDA2-963C702E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242EC-CBDB-4DA9-B25C-ACEF05B8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70C22-6FB2-4CE3-897F-1CA5E0FD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D619-48E1-41E5-999D-A6A75943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75BAA-3F4A-4D6E-A761-82205D3D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F5D54-1C67-496D-94E9-C2029975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F46DB-D344-466E-A33A-9AC7F564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0EA13-9E9D-406F-8510-7C7178A8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ED219-470F-4164-89E0-30AB02D9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1FE54-D68E-481E-ABF8-7BC4125D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8AE22-CBFA-47A3-9AFC-691F50CF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7458B-E09A-46D2-92E2-DF7B650E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AD0B1-A6C9-4670-A4B1-5F50B5EA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E6A8F-485B-4C29-A79B-7395B66F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4756-4E85-4DA4-AE4A-138192C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BC39A-8D2F-45F7-9982-6A814650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A06A6-42D7-43A4-8F9F-C9E3326A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638D8-0C25-4865-87BD-C169D426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84D6F-E18C-4DDC-BA00-B1A08866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7D1DE-6EBD-41DD-8C39-5FF08BFC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1E315-11E0-41D4-9D97-7CAA22CD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DDB62-861D-4957-8D04-65F9B26D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D5886-D542-4567-95D4-F46C4BCF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F49C0-F3A2-4652-A7B2-0C45055E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8655F-66DA-4FA9-BA04-47DB64D1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02BB-0971-49CC-A4C9-BC124E59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3EF36-90F1-4D09-855D-5870289A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D9D89-E603-4F29-99C1-55886EFD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2A2CA-3FF0-4638-96F0-37AC0589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894FE-193D-4FF2-A4E9-568CA065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EC9FE-9A3A-420F-B8FD-D9AAAE9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4D3EF-C957-4983-BE18-E4DD67E2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EDBAD-B8DE-4C22-BFDA-BA237EC7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B24E8-9892-48A8-B90F-A10CEAE4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30BCA-94AA-4344-A373-79FBBFAC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73A395-0F12-4F16-930D-8EA1AFA6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26AB-DAB1-4C09-8BE2-4ED56614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EDF26-54B5-49FC-BDF2-EE4ED7D3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7C64B-BAAC-49AF-A320-2B37148E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0DAE7-86BB-4BC6-8802-0EB26036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09682-2D1A-46A3-AB57-84897C00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E2357-8E28-4300-88AD-6E4F676C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6DF11-0751-471D-A01D-B6364268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25F16-E252-4E0B-BAE2-97D64E2E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4676B-0DB9-463C-A08F-E04A9EDB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1ABC6-6C8E-47EF-9350-2A2734A9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436B4-FD3E-4892-9DFF-45DE042D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27BF-9838-45DB-BEDE-22185F8A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BACF5-D993-490F-99A2-B25AC572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8FBE6-C6BD-4236-9FB4-00104231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7A8DF-CBBE-4FE7-97BE-814EF2A9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33DA7-DD76-4F92-8DFF-D8DEBC53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E410F-52A2-49B1-AFE7-7941D8C5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9F66C-2EDD-44D5-8BFD-45E418F1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235D25-F302-4B64-A1E8-0EDC03AD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CE6DD-9257-470B-9827-D6811CB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37B36-011A-4DEC-8A67-E56661A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70394-40ED-4B83-B359-B1538235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063B-7DA6-4C64-9A02-D67E8E7E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E89DE-7E6E-437C-B1B6-9A8DE34D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111D9-2E5D-4820-BEC8-657682F2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BE006-CF00-4904-9DCE-99FCC2CD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983E3-78DE-47A6-8D0D-5A36E785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C369C-8BF7-4BF6-9C56-F3ADDF0F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3931B-0584-4236-B88C-07316D63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987AB-7233-4BDA-8AE0-7292D4A8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663DA-2C62-47A0-8787-177284A8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27729-109E-4443-A46E-07992F84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1C719-6293-4181-AB49-E679CECB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AD0-3534-4A0E-AE40-95376DEF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A020-2716-4D53-B342-2114F23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6D6618-1E4E-4E78-B3A3-0EC87731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35B86-5774-4436-A84B-5181E8FA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C46B27-4177-4905-8423-4055D810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6CE779-2FBA-463C-8A32-4FAEC376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C3DD1-1CC6-4F66-BCBE-1731D192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6EAB4-5E99-4B0A-9BE8-3C50E16B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249BA-B7B6-40CF-8D35-D9092DF3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147E3-A38C-44ED-9E7F-A2677CA6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E0C5F6-2923-47AB-AA6B-D56085E4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0E649-A715-4DE3-83A6-D64A3ED8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06F0-7504-4C3A-8280-2B37C6ED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2D776-973D-4EE1-A277-A8272FF4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02CF0-D50B-46C9-91F2-54257B79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41900-3127-4D08-8000-E18DF49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4147C1-4278-4011-838C-DD8196B2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18EB22-CC91-4ED1-9E91-95343AA8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ED3FB-5CCE-4480-9B88-F6884C0F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31403-6702-416F-AF80-9B245BE8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1A0B6A-B5AA-4377-AFDF-4F6E24CA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EA3F7-B213-45E3-A2A1-E6CCA3B4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EAD6C3-6A37-4785-ADCE-08A4C236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75F8-16F9-42A3-BD4B-B9F8174F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E3D54-2EAB-4BB6-B814-8B8FE037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E18B8-E8F1-45F8-A99C-A4A8B120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27DA4-4D46-4AC8-A8B1-C6F62693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F3D69-8B67-48E8-BE12-584E858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B08EAD-A80A-4070-A538-305C1643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AFB8C6-C565-4687-B999-A4E9EE7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844A3-94DE-496F-8A62-A4470C78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F2DC3-6DD3-4317-97F4-2A656134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62E84-D50C-4555-B022-C68F74EB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BDC27-CF9F-41C0-BC67-6E15BA71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D1E7-0BAA-4DF8-8947-8C2BC57D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D6722-2B89-4C6C-BD7D-613FC62D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FBA740-0503-4D96-9BBB-4BA78695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BA225B-3A48-4279-8EA0-39E2752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65ED3B-A1E4-4C8C-95ED-453B03A6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F34F1-BAE0-48C3-A3A2-1EBD0279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09E4EC-D612-4629-B2BE-4A1D276E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66616B-99DB-428E-91EA-CE8A6A03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35F260-6C1D-4823-9D93-753F5AF6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279F1-3A01-4FE0-84BB-B89857A1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62CF5-0B25-4EC6-B9F0-A3C0E408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E6D8-66AD-4513-81A3-3F0100ED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F636F-7C62-49F7-A469-83CD8789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10AC2-0F3A-4C0A-9716-88E4701B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190EB-A020-4104-8DFA-8F94866E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008516-6D17-4BB3-8601-602894A1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D52743-8479-4532-A647-6D8A60C2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308459-1279-42AB-BDFD-338AF208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C832A3-125F-4CEA-A353-FBE511E2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5EA47-6D51-445F-B496-42D9C265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17634A-FD8D-417D-B92A-A2D74068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08ADB-94B2-4CEF-98E0-A489BB97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722B-AC0D-480F-896E-A9ED4656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59AAB3-07A3-429E-9ED7-61B89D2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B12F1A-D29A-4FA1-877A-03A3829B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A05C0C-2514-4A5B-9F28-30BDA0DA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C0B7B9-C2BB-49D2-803D-5B7341A6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58C7FD-8A36-42DB-82FB-1C6D897A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54EF81-E7C9-4A4A-86BB-A1302BC8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FB7F83-7876-4534-8786-AECD5A2F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EA4F95-31A9-4046-84AF-73CEB394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B39C21-F4F2-444D-8ADD-560A3304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D5B84A-FB2C-443F-9446-03FD3C9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684E-2497-40E5-8214-BF19E7ED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2FB808-ABC0-4B09-9FFA-082E558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A56820-819A-45C9-A6BC-72DEEE3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73F268-F75D-4590-9536-0C649615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38FE9-091C-4750-9FDF-3495497B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6B28A8-FDC8-4409-A88A-525F350A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AD24BE-879D-40AB-8E99-F674FD89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C409A1-223C-410B-B251-83C75748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DD05BB-A70F-4B5B-A5E8-51A641F3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2D029-A51D-49BD-BD84-92CA5AC8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BA5BBC-7C24-4D20-9F17-F3E24001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CAA9-56FA-4E95-8551-8C46C10F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F8BDAD-6644-4DC8-AC94-5C669C8C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631FAB-5090-42D2-A3FA-48D84D8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F65EF8-77D8-4E6F-BA90-DFCDB72D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06ED63-EBE5-419C-8E85-A02F811F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A6B3A0-7F43-46F7-BC8D-8C6FF7ED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A894CA-5683-4C50-8593-E33FF031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EDC86-84CD-46A2-ACB5-785BCC10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96A3D9-09D8-4FDD-931E-BD231F7E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7D8D14-46B6-491D-8139-2A91ABD8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7A8AF3-9FAA-43E6-9060-B83BFD77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2CAD0-2808-4D55-9177-F2788341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5D7EA8-2883-4E93-B3BF-E3765B1D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DD1949-065B-4D30-B336-24CBE076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92BB61-1B9D-4913-9CC2-6C06CF8F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0CFD50-1620-4CF0-8BF0-CBBEFA5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F45181-56E5-4D27-81AB-1014BF1B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76EAB6-3DC2-4F08-8E43-E1421D6E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129606-7853-4EAF-8D34-0014203A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01D01D-7213-41FE-BC0E-7EA1B9B7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529FBC-79F3-436A-9E97-16C42CD0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694A4B-E2BE-4047-99AF-35FBCD3A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B8DA-51A2-4434-A47B-808E0810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9E2505-ABF4-442D-80F8-224835A1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D417CC-7BC0-43E6-B240-2E12D920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13F657-03E5-4FB9-8050-5C22A4CA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270174-6D7C-43B0-AB99-BD63F352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77DF1B-0782-4739-B529-F3409AB8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D7E27F-C3A5-4CD1-B44E-9487F2EF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F4D5B1-397D-46F6-A69D-5F3313A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A86154-5636-442F-97C1-C5F59F6F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C57311-EE80-4500-A289-118FADA2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EBE467-98C5-4D0A-BFCB-FEBC4D45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68D-DFE7-4FBA-BE9D-65CCDA34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EBCA-454D-43F4-8F76-A3BF630E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92C34D-E568-4F9D-8A39-B3AEB6AA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72A9BB-0AB5-42C7-ADEF-B51C6D5E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52CF97-12D7-4793-8852-67417969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FB2E45-E641-4485-80DC-2C286310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0CB47D-4807-4DD2-9055-86220690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FF8D04-8BA2-44E6-811E-697DAB26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470E36-145F-4332-99B7-353154AE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FF856E-F9EF-48E4-9B79-B6A7A63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DEB37A-8746-44D3-A455-BCE64DB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DD7C0F-6A1D-4D1D-83C4-37419449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9A5CE-8114-4F94-92CC-5B673E44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31FED7-B18C-4214-B46A-2FA76AD8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E59407-C3CD-4287-A3AA-E6F580D8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1CA5EE-7B63-41E8-9574-D90A70B4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BE253B-FD5C-4475-BF22-6728A6F9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3CAF08-B3C5-4E39-84E0-6236DBAA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55C5F0-D670-42CF-BDDD-94586CE7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6047F5-84FD-4BCD-9930-43D5D640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1B32F2-E2AE-481C-9CDC-C4810A68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F0DDD7-1822-48D7-8C81-AFAB8F92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BCF53B-8F4E-42CC-AA47-38A492E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EF2FD-3F53-4009-A0A7-B5A8ED46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0CAEFB-C367-42BE-9760-9515FF08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DEF7AE-46E3-4C62-83FE-C5319C9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700594-5CA9-4E69-BF67-2C92597E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DC667C-D35F-45AE-BF6C-B004C9CC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4C6127-E364-4386-AB6D-D25B5643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761C2B-5D71-40BB-A3E0-B9FB84D0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B4B891-749F-45A1-937C-14798D71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6D7F3D-AD3A-40D7-B5E1-C001C0D2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0DAD1A-335E-4DF5-A689-DAEDC219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77662A-D222-417B-B817-B8039C22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12AC-88D0-4E69-849D-FA2C24CA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A8E426-79E1-4673-B65C-75193E63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06409A-8FB1-48A9-B1F3-352A34B9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E042EB-BCBB-4694-A736-919298DD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A259B4-AA20-403C-94D9-0E1D8789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1A3480-B62E-4071-A59F-32A99364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C0B440-F671-4ED9-BFE4-D9A435CA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AF1825-1499-43CC-B4B4-7FC48239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C774A2-687A-447E-A29B-60977CAF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D6602A-49BD-4994-AC49-1EF23E86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1CC079-932A-4137-B75F-7FD8F7C4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4632-A16A-4E4F-A61E-A1EC513B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F62F47-70C2-4851-8FE7-E4D19197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E27340-6C7B-4208-A20B-03802EF3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D59784-3430-4C3C-A2FA-709AFECA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57FD9B-AAC2-4298-9E87-CBD03322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3D74EF-5A49-45E2-B75A-E731C85F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ECCEAA-CB69-4822-92DA-97BC16E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9185C1-DD1F-4825-A89E-17FFBAB5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A04672-71ED-4A91-A09E-6AED2EAA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515B14-215C-4B85-AED2-681C259D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D56BAC-A3BD-40AE-AE10-7EE05446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5546-1AD4-48B9-8DEE-BF9310C0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7E2C14-CBC6-49EC-B078-6861C41A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BEEC47-2072-4F67-9A24-F5D69791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5110B1-F841-4C46-A32F-1E17F370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A301CD-9254-46FB-A1CD-9605CE7E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470B53-42BE-47C4-9F01-0443025D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A0AF7F-2BC2-4AB1-9382-8E2C859D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409A8B-F0D7-4829-B855-EBA8EF7A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8A1637-A0B9-4927-B4ED-EB073515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384F92-A4B8-45F0-81CE-9059EFAA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9DDB34-2FDC-4675-86F5-B3E952C4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11CF-853C-481C-A302-5FC72625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E9BBFB-8CDA-4286-99AB-B064F203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0526A6-A502-4898-B2C2-9794B85F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533912-D271-485E-97FD-3BFD1045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DBAB4C-719D-4BB4-95C9-98BC1DE9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CB64F5-692B-4B92-90EF-DD19B930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789F23-A49A-4C74-A78B-AB11A3E5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B17F17-40B6-4F6E-B546-063C407E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789FEC-CBF1-4BF0-BA1B-EDE1D89E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E5E490-827E-4A67-93F7-CE201878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147B6C-DFCA-400F-9C35-56E0F414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DBAC-0282-4A17-8DDE-FE256499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9C5656-66D5-474B-93A6-ECB95751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5B61E7-03C0-467C-BB1A-43ABCE7F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59F7A9-370E-454B-A060-1151FB00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86D9F4-C44C-42F3-ACB5-A07D3A56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CBE87B-6A0E-4F3D-9904-4F3D54B4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9E6F0E-4140-4BC9-8CEF-C2B2741D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E9CD9E-6294-4F99-899F-0653252B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687282-2E6F-42CC-AF04-9CC419CF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B3DCA5-FF81-45B0-95B4-4F4727B7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F811FB-0450-47AA-AE71-FFC38762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CD61-8E01-4F23-8B57-9302C47D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3CF8C0-08D0-44CA-8A64-A665E24E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66CE8A-FE6D-4AA8-BEA7-6A64DD7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5D68F7-D425-4035-BE65-35AC561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6CCA09-6BB6-4B36-BDD6-D5763E34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99A5F7-9F53-4A6F-BDA5-9D0A6D76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89A235-9127-44F0-BA89-C9FB773C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3E693B-5066-4D3C-9F40-C5F187DE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CF016E-86C2-47F0-967B-07BA1E46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59F5F1-1564-46BC-A9D1-9567319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E4E7C3-E46B-430F-9AEB-90057EFD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2420E-13E3-492D-A98A-24702CB0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3869F5-1F1A-4505-8820-5CB21A5E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227F89-1417-4B3F-A5AD-6A60A1E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40C0C3-2DA7-43FD-A704-CF80D788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CFDAAB-BD50-4B5B-98E9-B18D2FFF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031CE0-C85B-4879-B65C-9AA0E674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0F5FA6-96DF-4A69-899A-9CD0645B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CF10BE-5ECA-46BF-8443-307EC671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5B376F-89E6-42D8-8677-73E1E655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FEBC97-DF65-4DC7-94AE-8F6D7C8C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57A465-AD39-44A3-B9FB-3821191D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B29-C602-47A9-B88F-A7F019B9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F358-4D04-4681-B422-FBB997AD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3AE79D-C286-4CF1-8F73-33CFFDA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2621C4-E622-4D19-BAEC-BA195E18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A08FC7-DE9A-4141-A494-BB327872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896825-D7D9-42A1-B3B1-21F1E874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789739-D00F-4D7B-AEDB-D997A0C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A2FA2A-FDA7-44C2-94F3-70D0EB5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3BF657-15EC-43B4-9F4E-3ACE4056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EBE743-6EBF-4126-8DA4-575DFDE7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3B44F1-A1E8-466A-B9CA-DBFAC726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131854-0536-4C0D-B2F8-7495ACDE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F1FE8-FC22-4A31-87D4-CE781F61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89A20A-2E1F-4633-8030-1B58DF91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02F15E-E00D-4898-B51B-DEB812B7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8434ED-40A2-4F58-A938-671A936E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378138-B345-43CE-A738-17861197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7FB353-7116-48DC-B60C-5451932F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399694-0EF0-47CB-92D3-3717840B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9BF03E-4C86-4C5B-871D-39AE17CC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3FF47E-518D-4EC7-B131-2E91708C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F136F9-A475-444B-9CAB-AD989A54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E227BC-8346-43B8-9E2A-483E4DF3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C383B-1581-4876-B1BE-668898DB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06CA4C-08EA-4FB3-9F59-481E00C1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898BDB-A9C8-4FB7-9865-71DD6195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1F0A41-22D2-4F63-BD27-454218BF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020B1D-A9BA-4E85-A286-2C8639C4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C41E5A-7A57-41FD-A056-F92EEA32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2D625A-EAA6-400F-A0EC-80C6E2C3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4CCB2A-AC06-40B0-A87F-C59AB132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AC6458-24B0-4E45-B7C8-B39B3E46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527553-72D5-4EFE-907E-7B52C005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7C3F41-7C3C-475B-84DE-452A2E1E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057A-87DE-49C7-A03A-FEF032C4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612ED8-1596-4214-A772-CC7151A9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38A32B-9E86-4361-A5A3-EE4AFAB3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AAAB5E-BDDD-48CC-9DBA-67EDD918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099FA8-A27F-44E4-AD3A-68F1BE43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27794C-4777-45B6-B709-1BC8F6E4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78C53F-2944-4D97-B28B-114B388A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98FE96-E032-4F8A-A642-2AFE5EB6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4CC9D6-1A70-4CE0-BDE1-CDDC1074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AAADDD-9A32-42A1-B48D-4D9A6DBC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6CB8D0-A192-4F01-9A9B-C4AA0056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7D255-7C6D-4A3F-BC62-DB960CA2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7AFD34-BA75-4488-94AA-6E34A54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039E0C-E371-48F3-B779-43B7C959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3BC190-ADCF-43C5-BDB7-6E0FE655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E5EA0D-9678-4C63-B511-0712A28D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CFF0D8-B9CA-4C21-AD30-AFF25DE7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B34C23-814B-41D0-919A-34684425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8923E0-732B-47E4-997B-CE03DFD9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D07CF7-737E-43F4-B1A6-CB6BA269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7CF4D2D-25D3-440F-A389-7F5D51E6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4415CE-E232-4C33-91B7-CD9EB19F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D763-58A8-4AF3-BFD8-30EA8104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7399847-EB28-41CB-9EBF-221177F1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0014D4-7E1E-4890-A727-C619E90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21BF7D-0EFC-44D8-90BA-133A5120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98635A-363F-46F3-9478-7F8DFB40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3B114A3-3036-4201-94CA-FBDDD7D3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F71066-F8E3-4534-B6DE-B31E8840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76DCCAD-9275-4814-B95A-00905E67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877DA-71AA-4D92-AEEE-C3917D4A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FF2E-EE24-4159-9266-43A81DEE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7617-4BD3-441E-A156-795FA958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AC659-3948-4622-B38B-C66CAEF7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DBB-050E-4B0F-A870-B8868575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C2230-0B26-4649-9216-93E180A4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9AF4-ABAE-40CA-8F43-004FFBE0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0C16-40FB-47B2-B442-88AE096A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84FDE-02EA-4152-8CD0-4475635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8E20E-C84F-4A94-8831-A040DA8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9FE0C-4D48-4DB9-B34E-003713D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436A-0027-4948-8295-1A0C1ABA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837BA-38D5-4B3F-8866-9DBF7F7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8AF2-E0BF-4217-96D5-7536005C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2824C-81AF-460B-BC04-AFEFA56D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547-7E3A-4515-91A9-A459FA3A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3FB4B-1820-415A-B24F-C9E79C8E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CB172-B089-494A-8261-35F20372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72325-6CD9-4058-80C5-8040404F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76C72-0216-423E-BD1A-C076DD9E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FA3A6-8C2C-4758-A5A4-3A5AAAFE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88EAF-0B5F-4C36-837F-B908ED37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D7684-8275-4236-AFDF-97821BB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67FD0-0AF0-4A3A-9008-5E8F821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5BF36-E299-4A41-965B-C8482646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AE6E1-9F3C-43D8-9DCC-5D0D1F6E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CB2-2003-42CF-9662-2B30C591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4E2D4-8AC4-43A8-83F2-5FB76445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CAB69-C38A-4505-B761-73581ED8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164F6-0E15-48BE-879F-6C9BF533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64D76-4C61-4E7E-879A-0D6D9B11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D9C05-5B67-427A-B597-4022D454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62DD5-9B99-400F-B70D-937CF183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BBE94-2A94-444C-B4C0-FDE775A3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97285-D9E0-4B40-936E-B587F214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329FB-33DA-4A00-9C6E-370461E4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2863D-3A51-4FBD-B35A-4FC91871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995-C0E7-4576-B03D-DF0DC0E2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58C5D-E6A1-4806-AA1B-DF55E51C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C76E3-18CA-4B4B-88B8-5FB9F08D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A48D4-AC3A-46A4-869A-19793EE3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815E8-09DF-4CCB-87CC-F49EBDD5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9D8F2-ABBE-487E-86F5-EC626E23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C81F-31F5-49F4-981E-E690393B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8D84E-D55D-4183-93F7-D044BC74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B5A3C-1657-46E1-916F-7032ECF8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37B19-7115-473A-8A50-FD1E9331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CC1B0-A437-4DB6-B299-0CCCA09A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5F0-FA1C-4F0F-9753-DE3591E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2F7FE-672C-4F51-B18C-6708A573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0B074-A475-422F-9500-02BAB0B0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133B-82F3-472D-8DDA-7CAB8562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A257C-B0EB-4847-ADC8-B1C000B2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4F172-6DB0-4CA2-8DA1-1B8D159E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18F83-7933-45BB-98A2-0125D1AB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2617F-9B4C-4DAE-9941-F3BEAC9A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DAD2D-891C-4E65-A79F-B6E543E0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28D8F-C183-412B-90D2-C7F89BC4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A224B-BF43-41DA-9C45-8624784E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0406-CE20-4807-9E2F-F7A819F46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0942-53F6-4390-859A-6DE681E21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E250-3679-439D-B0B5-126FC6F2B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B397-AC6E-41DC-A4A3-8DE3C3C9F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DB4B-3DCC-4DF3-BA90-FA77E9167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D540-B9F0-4945-B1A0-795E24271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C416-3493-4799-8153-758E3901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4E9F-C2F2-4FF6-8ADD-C1148302D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C6A3-CBDB-4428-A3DD-89DB40394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7064-39DC-4F6D-89E8-B28018745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7D62-0BB5-477D-969D-DCD6E21E2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06B4-A408-4D0E-B3AD-184DFD2A9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C907-C603-4B29-9C14-557069531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075D-9E61-4EC3-8801-79CF499CD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3E49-A5A0-42F0-8529-CD494C4FB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5515-1F80-4939-A12F-188BEC287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DBC2-E6B6-4BC5-B434-792B2C661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9D41-6C2B-4B5D-9D81-7B726BCFE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AAB6-02E9-4100-965E-A9F99D1B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38C7-F232-4556-B3A2-32F506D55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9EC3-9E05-43E5-AF88-197213407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9807-CBFF-4CBC-94F1-931FE6BD2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CCF7-1A04-4A9D-934F-7803C0D36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3A40-36CE-4C0C-BFDB-37418E1B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15A7-8E8A-418A-979E-361D23095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55AA-DDA4-4A67-AA07-37C4A6930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8673-C49E-421F-809F-99836FE8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895A-9BFB-4889-A590-65C52C9CF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7ED1-A8F0-48D0-988F-F0F61C2A4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B607-ED10-4A43-B1EB-34C530DCC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5B7C-0C2B-46E1-B3C4-E25B2E00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1D9-9CDB-4390-8529-D1128F287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126A-31A7-40BA-B19C-932F25E0A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5F3E-8660-4818-A2D0-2CA0B43AD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5CFC-0D91-43B4-B243-F88A4A9F5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124C-E865-4DA2-8D85-E1312AA9D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F43E-2540-419B-A34F-495AD5F9B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A01C-C0D7-45DB-9A61-7B2D409B2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du.pe.ca/southernkings/landforms.htm" TargetMode="External"/><Relationship Id="rId5" Type="http://schemas.openxmlformats.org/officeDocument/2006/relationships/hyperlink" Target="http://members.enchantedlearning.com/geography/landforms/glossary.shtml?p" TargetMode="External"/><Relationship Id="rId6" Type="http://schemas.openxmlformats.org/officeDocument/2006/relationships/hyperlink" Target="http://www.google.com/earth/index.html" TargetMode="External"/><Relationship Id="rId7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4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9-19 &amp; 2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Mystery Island Project Due Friday      *Geo. Terms Test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25"/>
          <p:cNvSpPr/>
          <p:nvPr/>
        </p:nvSpPr>
        <p:spPr>
          <a:xfrm>
            <a:off x="0" y="990720"/>
            <a:ext cx="3962520" cy="368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9-19 &amp; 2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land formed at the mouth of  a river by deposits of silt, sand, and pebb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narrow strip of land bordered by water, that connects two larger bodies of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narrow waterway connecting two larger bodies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34"/>
          <p:cNvSpPr/>
          <p:nvPr/>
        </p:nvSpPr>
        <p:spPr>
          <a:xfrm>
            <a:off x="251460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35"/>
          <p:cNvSpPr/>
          <p:nvPr/>
        </p:nvSpPr>
        <p:spPr>
          <a:xfrm>
            <a:off x="3021120" y="2938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sth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36"/>
          <p:cNvSpPr/>
          <p:nvPr/>
        </p:nvSpPr>
        <p:spPr>
          <a:xfrm>
            <a:off x="1295280" y="3886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45" descr="green isthmus"/>
          <p:cNvPicPr/>
          <p:nvPr/>
        </p:nvPicPr>
        <p:blipFill>
          <a:blip r:embed="rId1"/>
          <a:srcRect l="0" t="21801" r="10001" b="14382"/>
          <a:stretch/>
        </p:blipFill>
        <p:spPr>
          <a:xfrm>
            <a:off x="0" y="4237200"/>
            <a:ext cx="5486400" cy="262080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47" descr="Strait_of_gibraltar"/>
          <p:cNvPicPr/>
          <p:nvPr/>
        </p:nvPicPr>
        <p:blipFill>
          <a:blip r:embed="rId2"/>
          <a:stretch/>
        </p:blipFill>
        <p:spPr>
          <a:xfrm>
            <a:off x="5465880" y="3581280"/>
            <a:ext cx="3678120" cy="381024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49" descr="delta"/>
          <p:cNvPicPr/>
          <p:nvPr/>
        </p:nvPicPr>
        <p:blipFill>
          <a:blip r:embed="rId3"/>
          <a:stretch/>
        </p:blipFill>
        <p:spPr>
          <a:xfrm>
            <a:off x="3886200" y="1033560"/>
            <a:ext cx="52578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Picture 1026" descr="Fr-island"/>
          <p:cNvPicPr/>
          <p:nvPr/>
        </p:nvPicPr>
        <p:blipFill>
          <a:blip r:embed="rId1"/>
          <a:stretch/>
        </p:blipFill>
        <p:spPr>
          <a:xfrm>
            <a:off x="685800" y="609480"/>
            <a:ext cx="8001000" cy="5872320"/>
          </a:xfrm>
          <a:prstGeom prst="rect">
            <a:avLst/>
          </a:prstGeom>
          <a:ln w="0">
            <a:noFill/>
          </a:ln>
        </p:spPr>
      </p:pic>
      <p:sp>
        <p:nvSpPr>
          <p:cNvPr id="1585" name="Text Box 1027"/>
          <p:cNvSpPr/>
          <p:nvPr/>
        </p:nvSpPr>
        <p:spPr>
          <a:xfrm>
            <a:off x="4267080" y="1295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028"/>
          <p:cNvSpPr/>
          <p:nvPr/>
        </p:nvSpPr>
        <p:spPr>
          <a:xfrm flipH="1">
            <a:off x="35049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oup or chain of islands clustered together in a sea or ocean that runs through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chipelag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0" name="Picture 7" descr="The World Archipelago, Persian Gulf"/>
          <p:cNvPicPr/>
          <p:nvPr/>
        </p:nvPicPr>
        <p:blipFill>
          <a:blip r:embed="rId1"/>
          <a:stretch/>
        </p:blipFill>
        <p:spPr>
          <a:xfrm>
            <a:off x="3733920" y="2362320"/>
            <a:ext cx="4647960" cy="403848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9" descr="Click to show &quot;archipelago&quot; result 4"/>
          <p:cNvPicPr/>
          <p:nvPr/>
        </p:nvPicPr>
        <p:blipFill>
          <a:blip r:embed="rId2"/>
          <a:stretch/>
        </p:blipFill>
        <p:spPr>
          <a:xfrm>
            <a:off x="990720" y="2133720"/>
            <a:ext cx="2286000" cy="37335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5" descr="http://members.enchantedlearning.com/agifs/archipelago.GIF"/>
          <p:cNvPicPr/>
          <p:nvPr/>
        </p:nvPicPr>
        <p:blipFill>
          <a:blip r:embed="rId3"/>
          <a:stretch/>
        </p:blipFill>
        <p:spPr>
          <a:xfrm>
            <a:off x="6858000" y="838080"/>
            <a:ext cx="12002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WordArt 5" descr=""/>
          <p:cNvPicPr/>
          <p:nvPr/>
        </p:nvPicPr>
        <p:blipFill>
          <a:blip r:embed="rId1"/>
          <a:stretch/>
        </p:blipFill>
        <p:spPr>
          <a:xfrm>
            <a:off x="835200" y="828720"/>
            <a:ext cx="717516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4" name="Picture 9" descr="http://floridagulfofmexico.com/images/gulfmap.jpg"/>
          <p:cNvPicPr/>
          <p:nvPr/>
        </p:nvPicPr>
        <p:blipFill>
          <a:blip r:embed="rId1"/>
          <a:stretch/>
        </p:blipFill>
        <p:spPr>
          <a:xfrm>
            <a:off x="1905120" y="129528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95" name="Rectangle 2" descr=""/>
          <p:cNvPicPr/>
          <p:nvPr/>
        </p:nvPicPr>
        <p:blipFill>
          <a:blip r:embed="rId2"/>
          <a:stretch/>
        </p:blipFill>
        <p:spPr>
          <a:xfrm>
            <a:off x="5389560" y="3139920"/>
            <a:ext cx="2936880" cy="114012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" descr="http://members.enchantedlearning.com/ggifs/Gulf.GIF"/>
          <p:cNvPicPr/>
          <p:nvPr/>
        </p:nvPicPr>
        <p:blipFill>
          <a:blip r:embed="rId3"/>
          <a:stretch/>
        </p:blipFill>
        <p:spPr>
          <a:xfrm>
            <a:off x="1143000" y="914400"/>
            <a:ext cx="1200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WordArt 3"/>
          <p:cNvSpPr txBox="1"/>
          <p:nvPr/>
        </p:nvSpPr>
        <p:spPr>
          <a:xfrm>
            <a:off x="1371600" y="1447920"/>
            <a:ext cx="5943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lligraphy"/>
              </a:rPr>
              <a:t>What is…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2286000" y="2666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Calligraphy"/>
              </a:rPr>
              <a:t>A body of land that is surrounded by water on three s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0" name="Picture 9" descr="http://upload.wikimedia.org/wikipedia/commons/thumb/f/f6/Satellite_image_of_Italy_in_March_2003.jpg/250px-Satellite_image_of_Italy_in_March_2003.jpg"/>
          <p:cNvPicPr/>
          <p:nvPr/>
        </p:nvPicPr>
        <p:blipFill>
          <a:blip r:embed="rId1"/>
          <a:stretch/>
        </p:blipFill>
        <p:spPr>
          <a:xfrm>
            <a:off x="457200" y="1447920"/>
            <a:ext cx="4952880" cy="404784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WordArt 3"/>
          <p:cNvSpPr txBox="1"/>
          <p:nvPr/>
        </p:nvSpPr>
        <p:spPr>
          <a:xfrm>
            <a:off x="1219320" y="914400"/>
            <a:ext cx="655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oudy Stout"/>
              </a:rPr>
              <a:t>A Peninsu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oudy Stout"/>
              <a:ea typeface="Goudy Stout"/>
            </a:endParaRPr>
          </a:p>
        </p:txBody>
      </p:sp>
      <p:pic>
        <p:nvPicPr>
          <p:cNvPr id="1603" name="Picture 6" descr="ag00037_"/>
          <p:cNvPicPr/>
          <p:nvPr/>
        </p:nvPicPr>
        <p:blipFill>
          <a:blip r:embed="rId2"/>
          <a:stretch/>
        </p:blipFill>
        <p:spPr>
          <a:xfrm>
            <a:off x="5257800" y="2743200"/>
            <a:ext cx="1303200" cy="1714680"/>
          </a:xfrm>
          <a:prstGeom prst="rect">
            <a:avLst/>
          </a:prstGeom>
          <a:ln w="0">
            <a:noFill/>
          </a:ln>
        </p:spPr>
      </p:pic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cc00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2824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Script MT Bold"/>
              </a:rPr>
              <a:t>What is a narrow strip of land connecting two larger landmasses. It  has water on two sid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6" name="Picture 7" descr="http://upload.wikimedia.org/wikipedia/commons/thumb/8/81/Pm-map.png/450px-Pm-map.png"/>
          <p:cNvPicPr/>
          <p:nvPr/>
        </p:nvPicPr>
        <p:blipFill>
          <a:blip r:embed="rId1"/>
          <a:stretch/>
        </p:blipFill>
        <p:spPr>
          <a:xfrm>
            <a:off x="1447920" y="609480"/>
            <a:ext cx="6400800" cy="4705560"/>
          </a:xfrm>
          <a:prstGeom prst="rect">
            <a:avLst/>
          </a:prstGeom>
          <a:ln w="0">
            <a:noFill/>
          </a:ln>
        </p:spPr>
      </p:pic>
      <p:sp>
        <p:nvSpPr>
          <p:cNvPr id="16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028"/>
          <p:cNvSpPr/>
          <p:nvPr/>
        </p:nvSpPr>
        <p:spPr>
          <a:xfrm>
            <a:off x="274320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wcard Gothic"/>
              </a:rPr>
              <a:t>An Isth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029"/>
          <p:cNvSpPr/>
          <p:nvPr/>
        </p:nvSpPr>
        <p:spPr>
          <a:xfrm>
            <a:off x="4648320" y="9144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2" descr=""/>
          <p:cNvPicPr/>
          <p:nvPr/>
        </p:nvPicPr>
        <p:blipFill>
          <a:blip r:embed="rId2"/>
          <a:stretch/>
        </p:blipFill>
        <p:spPr>
          <a:xfrm>
            <a:off x="-12600" y="3986280"/>
            <a:ext cx="2901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129528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Showcard Gothic"/>
              </a:rPr>
              <a:t>What is a narrow body of water that connects two larger bodies of wa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39384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27990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2" descr="C:\Documents and Settings\sramsey\Local Settings\Temporary Internet Files\Content.IE5\FY2OJR7E\MC900438074[1].png"/>
          <p:cNvPicPr/>
          <p:nvPr/>
        </p:nvPicPr>
        <p:blipFill>
          <a:blip r:embed="rId3"/>
          <a:stretch/>
        </p:blipFill>
        <p:spPr>
          <a:xfrm>
            <a:off x="3200400" y="3352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568" name="Rectangle 3"/>
          <p:cNvSpPr/>
          <p:nvPr/>
        </p:nvSpPr>
        <p:spPr>
          <a:xfrm>
            <a:off x="6019920" y="3886200"/>
            <a:ext cx="25146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 for pictures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4"/>
          <p:cNvSpPr/>
          <p:nvPr/>
        </p:nvSpPr>
        <p:spPr>
          <a:xfrm>
            <a:off x="152280" y="3962520"/>
            <a:ext cx="28958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lick here for a glossary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124080" y="5791320"/>
            <a:ext cx="28195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ogle.com/earth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3" name="Picture 6" descr="http://upload.wikimedia.org/wikipedia/commons/thumb/c/cf/Strait_of_gibraltar.jpg/300px-Strait_of_gibraltar.jpg"/>
          <p:cNvPicPr/>
          <p:nvPr/>
        </p:nvPicPr>
        <p:blipFill>
          <a:blip r:embed="rId1"/>
          <a:stretch/>
        </p:blipFill>
        <p:spPr>
          <a:xfrm>
            <a:off x="3200400" y="914400"/>
            <a:ext cx="5486400" cy="3876840"/>
          </a:xfrm>
          <a:prstGeom prst="rect">
            <a:avLst/>
          </a:prstGeom>
          <a:ln w="0">
            <a:noFill/>
          </a:ln>
        </p:spPr>
      </p:pic>
      <p:sp>
        <p:nvSpPr>
          <p:cNvPr id="1614" name="WordArt 3"/>
          <p:cNvSpPr txBox="1"/>
          <p:nvPr/>
        </p:nvSpPr>
        <p:spPr>
          <a:xfrm>
            <a:off x="304920" y="304920"/>
            <a:ext cx="2895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5" name="Line 4"/>
          <p:cNvSpPr/>
          <p:nvPr/>
        </p:nvSpPr>
        <p:spPr>
          <a:xfrm>
            <a:off x="2057400" y="1981080"/>
            <a:ext cx="2971800" cy="17528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WordArt 2"/>
          <p:cNvSpPr txBox="1"/>
          <p:nvPr/>
        </p:nvSpPr>
        <p:spPr>
          <a:xfrm>
            <a:off x="2362320" y="609480"/>
            <a:ext cx="487656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hat i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1617" name="WordArt 3"/>
          <p:cNvSpPr txBox="1"/>
          <p:nvPr/>
        </p:nvSpPr>
        <p:spPr>
          <a:xfrm>
            <a:off x="914400" y="2133720"/>
            <a:ext cx="7696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stream  or  river  that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f lows into a larger river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Picture 7" descr="File:Glomma meets tributary Vorma.JPG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1619" name="Text Box 1027"/>
          <p:cNvSpPr/>
          <p:nvPr/>
        </p:nvSpPr>
        <p:spPr>
          <a:xfrm>
            <a:off x="1295280" y="2057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028"/>
          <p:cNvSpPr/>
          <p:nvPr/>
        </p:nvSpPr>
        <p:spPr>
          <a:xfrm>
            <a:off x="1066680" y="15238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"/>
              </a:rPr>
              <a:t>A Tribut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029"/>
          <p:cNvSpPr/>
          <p:nvPr/>
        </p:nvSpPr>
        <p:spPr>
          <a:xfrm>
            <a:off x="2057400" y="2438280"/>
            <a:ext cx="175248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WordArt 4"/>
          <p:cNvSpPr txBox="1"/>
          <p:nvPr/>
        </p:nvSpPr>
        <p:spPr>
          <a:xfrm>
            <a:off x="990720" y="1219320"/>
            <a:ext cx="6738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What is part of a lar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body of water th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extends into land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and is smaller than a gulf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5" descr="indian-head-b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3" name="WordArt 6"/>
          <p:cNvSpPr txBox="1"/>
          <p:nvPr/>
        </p:nvSpPr>
        <p:spPr>
          <a:xfrm>
            <a:off x="2209680" y="297180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natural stream of water that runs through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5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iv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7" name="Picture 3" descr="river"/>
          <p:cNvPicPr/>
          <p:nvPr/>
        </p:nvPicPr>
        <p:blipFill>
          <a:blip r:embed="rId1"/>
          <a:stretch/>
        </p:blipFill>
        <p:spPr>
          <a:xfrm>
            <a:off x="1219320" y="1676520"/>
            <a:ext cx="6686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What is a large body of water that is completely surrounded by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2" descr="Maxwell%2520Bay%2520Lake%2520View%25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0" name="Text Box 3"/>
          <p:cNvSpPr/>
          <p:nvPr/>
        </p:nvSpPr>
        <p:spPr>
          <a:xfrm>
            <a:off x="2209680" y="18288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 Extra Bold"/>
              </a:rPr>
              <a:t>L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4"/>
          <p:cNvSpPr/>
          <p:nvPr/>
        </p:nvSpPr>
        <p:spPr>
          <a:xfrm>
            <a:off x="3124080" y="259092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Text Box 1026"/>
          <p:cNvSpPr/>
          <p:nvPr/>
        </p:nvSpPr>
        <p:spPr>
          <a:xfrm>
            <a:off x="1508040" y="118440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1027"/>
          <p:cNvSpPr/>
          <p:nvPr/>
        </p:nvSpPr>
        <p:spPr>
          <a:xfrm>
            <a:off x="1371600" y="2895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body of land completely surrounded by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19T12:44:39Z</dcterms:modified>
  <cp:revision>31</cp:revision>
  <dc:subject/>
  <dc:title>Slide 1</dc:title>
</cp:coreProperties>
</file>